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99B-D964-49B8-ABC1-4E5FDFCFD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220C-473C-4DA7-9EC8-E0C00008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546B-02BB-4969-81A8-BC54E1B10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AF82-0954-4B03-A7CE-3ACC6CB2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7602-153A-48AD-9EB2-3667FF0A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049C-5D72-4614-B839-ACF2AB61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250-291F-4F2B-8CEB-C7BFC234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0DD-2BC5-403C-9F1D-F3FCF118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9CDF-19C8-4607-B395-C3E9E300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546B-0878-4645-AD01-6B0349B5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DC42-0903-461C-8669-6939C76C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FDCC-CEF1-4514-83F1-9983762E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A083-71AA-4730-B6FD-972B10E09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038920" cy="13622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50920" y="5410080"/>
            <a:ext cx="503856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2T9q9HaJHg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4008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Half-way t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 preparation classes – 18th &amp; 25th N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mb exam orals in clic – 5th D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rsation classes started for all courses – Fridays 18-19:00 or 19-20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rsation classes for Friday groups: in 1h bono slots (LX15:15, LX20:4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udy Club – Started –&gt; Matls to Ir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observations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F &amp; FCE/CAE wikis – started being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cTeachers wiki revamped – anything you want on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lary sh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am supplement &gt; In December’s ex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ench &amp; German kids’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-Company level changes: Exam / certif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4" dur="1" fill="hold"/>
                                  <p:tgtEl>
                                    <p:spTgt spid="6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as party – Saturday, 17th 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eke charity concert – </a:t>
            </a: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r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ltural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3" dur="1" fill="hold"/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op-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69608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ts of EXCELLENT practice go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 for ongoing Teacher Development sessions &amp; peer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7" dur="1" fill="hold"/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rop in – areas looked 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3480" y="16729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ting up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apport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terial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tegration of pronun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rror corr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)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e of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)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oard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h)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aling with the unexpe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j) Learner trai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 2 TD se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69608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you like to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Any specific language ar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like to give a s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6" dur="1" fill="hold"/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L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04000" y="1773360"/>
            <a:ext cx="122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an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1280" y="1773360"/>
            <a:ext cx="1368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vo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ess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4360" y="1771560"/>
            <a:ext cx="122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ob 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an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r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al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64000" y="1773360"/>
            <a:ext cx="122400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an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ra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u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u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1773360"/>
            <a:ext cx="16556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Kather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nd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r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m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n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L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69608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 through what’s required for kids’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ful phrase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iginals to DoS, Photocopy&gt;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ids return back to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0" dur="1" fill="hold"/>
                                  <p:tgtEl>
                                    <p:spTgt spid="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-Company mt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69608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ST Feedback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ener Level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mien, Mark, David, Patrick, Ian O, Ruby, Rob M, Sandra, James, Elena, Tim, Liz, Trish, Rob S, Laura, Lucy, Joanna, Ollie, Ber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4" dur="1" fill="hold"/>
                                  <p:tgtEl>
                                    <p:spTgt spid="8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276640"/>
            <a:ext cx="792144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0" spc="-1" strike="noStrike">
                <a:solidFill>
                  <a:srgbClr val="000000"/>
                </a:solidFill>
                <a:latin typeface="Arial"/>
              </a:rPr>
              <a:t>Thank you!!</a:t>
            </a:r>
            <a:br>
              <a:rPr sz="7000"/>
            </a:br>
            <a:r>
              <a:rPr b="1" lang="es-ES" sz="7000" spc="-1" strike="noStrike">
                <a:solidFill>
                  <a:srgbClr val="000000"/>
                </a:solidFill>
                <a:latin typeface="Arial"/>
              </a:rPr>
              <a:t>Merci!!</a:t>
            </a:r>
            <a:br>
              <a:rPr sz="7000"/>
            </a:br>
            <a:r>
              <a:rPr b="1" lang="es-ES" sz="7000" spc="-1" strike="noStrike">
                <a:solidFill>
                  <a:srgbClr val="000000"/>
                </a:solidFill>
                <a:latin typeface="Arial"/>
              </a:rPr>
              <a:t>Danke!!</a:t>
            </a:r>
            <a:br>
              <a:rPr sz="7000"/>
            </a:br>
            <a:r>
              <a:rPr b="1" lang="es-ES" sz="7000" spc="-1" strike="noStrike">
                <a:solidFill>
                  <a:srgbClr val="000000"/>
                </a:solidFill>
                <a:latin typeface="Arial"/>
              </a:rPr>
              <a:t>Diolch!!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uess the numb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867280" y="1916280"/>
            <a:ext cx="266544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1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74:26 (3: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38% [28%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3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1916280"/>
            <a:ext cx="61196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increase in students in c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tal no of groups in c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tio: adults to kids (E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exam prep classes (v Gen E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 site classes (% of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2240" y="952920"/>
            <a:ext cx="189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November / Dec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50920" y="1125360"/>
          <a:ext cx="8713800" cy="4651200"/>
        </p:xfrm>
        <a:graphic>
          <a:graphicData uri="http://schemas.openxmlformats.org/drawingml/2006/table">
            <a:tbl>
              <a:tblPr/>
              <a:tblGrid>
                <a:gridCol w="1633680"/>
                <a:gridCol w="1635120"/>
                <a:gridCol w="1630440"/>
                <a:gridCol w="1635120"/>
                <a:gridCol w="1633320"/>
                <a:gridCol w="546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118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TST feedback se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Abener level te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TST feedback se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Abener level te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TST feedback se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inc Abener grou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TST feedback ses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inc Abener grou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Jov or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Jov or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Camb exam or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ol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oli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Junior oral &amp; written ex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French Extensive or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Junior oral &amp; written ex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French Extensive or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German adult or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German adult or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Abener reports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French/German Car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End of term mt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mas par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Kids’ reports 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Junior car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Int 2.0 exams (a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Int 2.0 exams (a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Int 2.0 exams (p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Int (normal) ex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Junior car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Int 2.0 exams (p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Int (normal) ex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*Level recommend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st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696560" y="5733360"/>
            <a:ext cx="376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Remember - First day back – Monday, 9th Januar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57800" y="2565360"/>
            <a:ext cx="365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Arial"/>
              </a:rPr>
              <a:t>Busy!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tes for your diary - Ad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ve 2.0 exams (a.m.) - 19th &amp; 20th D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ve 2.0 exams (p.m.) - 20th &amp; 21st D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ive exams – 20th &amp; 21st D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level recommendations/”interesting” students - 21st D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" dur="1" fill="hold"/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tes for your diary - 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óvenes oral assessment class swap - 1st &amp; 5th 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 oral &amp; written exams – 12th &amp; 13th 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ort cards handed in – By 19th 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istmas Carol Concert – (16th French &amp; German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19th &amp; 20th 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ates for your diary – In-Comp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ST Feedback sessions – w/c 28th N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ión Forestal, Cargill, Consejo, Grupo Taper, Renault, Soldiers, Tecnocom, Abener 1: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ener groups: Level tests – 28/29th N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ST sessions – 30th Nov &amp; 1st 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ST Feedback sessions – w/c 30th 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rnst &amp; Young, Sermergen, Credito y Ca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orts – Abener/Tecnocom – 16th 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mpany exams (all companies) – w/c 23rd 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8" dur="1" fill="hold"/>
                                  <p:tgtEl>
                                    <p:spTgt spid="5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incidents in the incidents books in the computer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room should be left tidy every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 from bookshelves - Returned &amp; kept on the sh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7" dur="1" fill="hold"/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6964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ttendance: Please do every week, report any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-Company CD players live in our office or in the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ideas to improve things or anything you need – please come and se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6" dur="1" fill="hold"/>
                                  <p:tgtEl>
                                    <p:spTgt spid="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2:19:59Z</dcterms:created>
  <dc:creator>CDobson</dc:creator>
  <dc:description/>
  <dc:language>en-US</dc:language>
  <cp:lastModifiedBy>BRoberts</cp:lastModifiedBy>
  <dcterms:modified xsi:type="dcterms:W3CDTF">2011-11-18T11:51:19Z</dcterms:modified>
  <cp:revision>100</cp:revision>
  <dc:subject/>
  <dc:title>Diapositiva 1</dc:title>
</cp:coreProperties>
</file>